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3572E-A68F-42C8-8BDF-18193A9D2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1B70F-5CC0-4620-92F4-89D3EC0BB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D1253-1D26-4095-B575-EDCD18A44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F8CFF-7563-4587-853F-3113C23A9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F1F4D-31E9-4F99-8D2B-CDC54A0E6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CEC17-9734-4576-BE25-97CFBA2C1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95D9C-943C-4ECA-9243-0CC8A3DD7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CCF5A-8767-4B7F-98F4-875C95C1A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F8C38-427C-4550-9C39-87E0F7556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D901A-F9A3-4199-978D-6940D5F8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FF713-68EF-46AC-962B-DC942E1EB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C78D4-433B-4B6D-B4B2-41ECD8615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B564-BDCA-44CD-BBBC-5017B92D3B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1440000" cy="1440000"/>
          </a:xfrm>
          <a:prstGeom prst="rect">
            <a:avLst/>
          </a:prstGeom>
          <a:ln w="0">
            <a:noFill/>
          </a:ln>
        </p:spPr>
      </p:pic>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6b2</cp:lastModifiedBy>
  <dcterms:modified xsi:type="dcterms:W3CDTF">2012-06-19T11:02:36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